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5920" y="2031480"/>
            <a:ext cx="10972800" cy="32259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bef"/>
                </a:solidFill>
                <a:latin typeface="Copperplate"/>
              </a:rPr>
              <a:t>Click to edit the title text format</a:t>
            </a:r>
            <a:endParaRPr b="0" lang="en-US" sz="10500" spc="-1" strike="noStrike">
              <a:solidFill>
                <a:srgbClr val="fffbef"/>
              </a:solidFill>
              <a:latin typeface="Copperpla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15920" y="5359320"/>
            <a:ext cx="10972800" cy="123192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t">
            <a:normAutofit fontScale="2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Click to edit the outline text format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  <a:p>
            <a:pPr lvl="1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Second Outline Level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  <a:p>
            <a:pPr lvl="2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Third Outline Level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  <a:p>
            <a:pPr lvl="3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Fourth Outline Level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  <a:p>
            <a:pPr lvl="4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Fifth Outline Level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  <a:p>
            <a:pPr lvl="5" algn="ctr">
              <a:buClr>
                <a:srgbClr val="5b5648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Sixth Outline Level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  <a:p>
            <a:pPr lvl="6" algn="ctr">
              <a:buClr>
                <a:srgbClr val="5b5648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Seventh Outline Level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1015920" y="1270080"/>
            <a:ext cx="10972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323640" indent="-323640">
              <a:spcBef>
                <a:spcPts val="53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1" marL="928080" indent="-323640">
              <a:spcBef>
                <a:spcPts val="53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2" marL="1306080" indent="-324000">
              <a:spcBef>
                <a:spcPts val="53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3" marL="1683720" indent="-323640">
              <a:spcBef>
                <a:spcPts val="53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4" marL="2061720" indent="-323640">
              <a:spcBef>
                <a:spcPts val="53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5" marL="2061720" indent="-323640">
              <a:spcBef>
                <a:spcPts val="53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6" marL="2061720" indent="-323640">
              <a:spcBef>
                <a:spcPts val="53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342720" indent="-342720">
              <a:spcBef>
                <a:spcPts val="33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1" marL="982800" indent="-342720">
              <a:spcBef>
                <a:spcPts val="33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2" marL="1383120" indent="-343080">
              <a:spcBef>
                <a:spcPts val="33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3" marL="1782720" indent="-342720">
              <a:spcBef>
                <a:spcPts val="33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4" marL="2183040" indent="-342720">
              <a:spcBef>
                <a:spcPts val="33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5" marL="2183040" indent="-342720">
              <a:spcBef>
                <a:spcPts val="3399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6" marL="2183040" indent="-342720">
              <a:spcBef>
                <a:spcPts val="3399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323640" indent="-32364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1" marL="928080" indent="-32364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2" marL="1306080" indent="-32400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3" marL="1683720" indent="-32364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4" marL="2061720" indent="-32364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5" marL="2061720" indent="-323640">
              <a:spcBef>
                <a:spcPts val="2999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lvl="6" marL="2061720" indent="-323640">
              <a:spcBef>
                <a:spcPts val="2999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97600" y="2768400"/>
            <a:ext cx="419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0000"/>
          </a:bodyPr>
          <a:p>
            <a:pPr marL="228240" indent="-22824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1" marL="655200" indent="-22824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2" marL="921960" indent="-22860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3" marL="1188360" indent="-22824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4" marL="1455120" indent="-22824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5" marL="1455120" indent="-228240">
              <a:spcBef>
                <a:spcPts val="38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6" marL="1455120" indent="-228240">
              <a:spcBef>
                <a:spcPts val="38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015920" y="276840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277920" indent="-27792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1" marL="797040" indent="-27792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2" marL="1121760" indent="-27828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3" marL="1446120" indent="-27792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4" marL="1770480" indent="-27792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5" marL="1770480" indent="-277920">
              <a:spcBef>
                <a:spcPts val="38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6" marL="1770480" indent="-277920">
              <a:spcBef>
                <a:spcPts val="38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bef"/>
                </a:solidFill>
                <a:latin typeface="Copperplate"/>
              </a:rPr>
              <a:t>Click to edit the title text format</a:t>
            </a:r>
            <a:endParaRPr b="0" lang="en-US" sz="105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015920" y="276840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277920" indent="-27792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1" marL="797040" indent="-27792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2" marL="1121760" indent="-27828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3" marL="1446120" indent="-27792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4" marL="1770480" indent="-277920">
              <a:spcBef>
                <a:spcPts val="38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5" marL="1770480" indent="-277920">
              <a:spcBef>
                <a:spcPts val="38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lvl="6" marL="1770480" indent="-277920">
              <a:spcBef>
                <a:spcPts val="38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15920" y="7797600"/>
            <a:ext cx="10972800" cy="152388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bef"/>
                </a:solidFill>
                <a:latin typeface="Copperplate"/>
              </a:rPr>
              <a:t>Click to edit the title text format</a:t>
            </a:r>
            <a:endParaRPr b="0" lang="en-US" sz="82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1396800"/>
            <a:ext cx="5969160" cy="37083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bef"/>
                </a:solidFill>
                <a:latin typeface="Copperplate"/>
              </a:rPr>
              <a:t>Click to edit the title text format</a:t>
            </a:r>
            <a:endParaRPr b="0" lang="en-US" sz="7000" spc="-1" strike="noStrike">
              <a:solidFill>
                <a:srgbClr val="fffbef"/>
              </a:solidFill>
              <a:latin typeface="Copperplat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80520" y="5219640"/>
            <a:ext cx="5969160" cy="323856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t">
            <a:normAutofit fontScale="7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1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2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3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4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5" algn="ctr">
              <a:buClr>
                <a:srgbClr val="5b5648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6" algn="ctr">
              <a:buClr>
                <a:srgbClr val="5b5648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15920" y="2031480"/>
            <a:ext cx="10972800" cy="32259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bef"/>
                </a:solidFill>
                <a:latin typeface="Copperplate"/>
              </a:rPr>
              <a:t>Fighting Back: The Rise of Feminism</a:t>
            </a:r>
            <a:endParaRPr b="0" lang="en-US" sz="9000" spc="-1" strike="noStrike">
              <a:solidFill>
                <a:srgbClr val="fffbef"/>
              </a:solidFill>
              <a:latin typeface="Copperplat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15920" y="5359320"/>
            <a:ext cx="10972800" cy="123192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bef"/>
                </a:solidFill>
                <a:latin typeface="Copperplate"/>
              </a:rPr>
              <a:t>Jonathan Kim and Lauren Kang</a:t>
            </a:r>
            <a:endParaRPr b="0" lang="en-US" sz="42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b5648"/>
                </a:solidFill>
                <a:latin typeface="Copperplate"/>
              </a:rPr>
              <a:t>Rights of Women in the Past</a:t>
            </a:r>
            <a:endParaRPr b="0" lang="en-US" sz="58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277920" indent="-277920">
              <a:lnSpc>
                <a:spcPct val="9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648"/>
                </a:solidFill>
                <a:latin typeface="Baskerville"/>
              </a:rPr>
              <a:t>Women were considered as a separate class in the past.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  <a:p>
            <a:pPr marL="277920" indent="-277920">
              <a:lnSpc>
                <a:spcPct val="9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648"/>
                </a:solidFill>
                <a:latin typeface="Baskerville"/>
              </a:rPr>
              <a:t>A husband and wife were legally one person - him (Chafetz and Dworkin 1986)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  <a:p>
            <a:pPr marL="277920" indent="-277920">
              <a:lnSpc>
                <a:spcPct val="9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648"/>
                </a:solidFill>
                <a:latin typeface="Baskerville"/>
              </a:rPr>
              <a:t>Women were unable to vote, take on leadership roles, and take part as a major factor in society.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  <a:p>
            <a:pPr marL="277920" indent="-277920">
              <a:lnSpc>
                <a:spcPct val="9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648"/>
                </a:solidFill>
                <a:latin typeface="Baskerville"/>
              </a:rPr>
              <a:t>Men held onto more power, privileges, and used social institution in order to keep their social statues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  <a:p>
            <a:pPr marL="277920" indent="-277920">
              <a:lnSpc>
                <a:spcPct val="9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648"/>
                </a:solidFill>
                <a:latin typeface="Baskerville"/>
              </a:rPr>
              <a:t>“</a:t>
            </a:r>
            <a:r>
              <a:rPr b="0" lang="en-US" sz="2400" spc="-1" strike="noStrike">
                <a:solidFill>
                  <a:srgbClr val="5b5648"/>
                </a:solidFill>
                <a:latin typeface="Baskerville"/>
              </a:rPr>
              <a:t>Politics is too public, too wearing, and too unfitted to the nature of women” - Jeannette Gilder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  <a:p>
            <a:pPr marL="277920" indent="-277920">
              <a:lnSpc>
                <a:spcPct val="9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648"/>
                </a:solidFill>
                <a:latin typeface="Baskerville"/>
              </a:rPr>
              <a:t>Were viewed as the main source of temptation for example from the Greek mythologies. 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  <a:p>
            <a:pPr marL="277920" indent="-277920">
              <a:lnSpc>
                <a:spcPct val="9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648"/>
                </a:solidFill>
                <a:latin typeface="Baskerville"/>
              </a:rPr>
              <a:t>"Woman is the gate of the devil, the path of wickedness, the sting of the serpent, in a word a perilous object." Thomas Aquinas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  <a:p>
            <a:pPr marL="277920" indent="-277920">
              <a:lnSpc>
                <a:spcPct val="9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648"/>
                </a:solidFill>
                <a:latin typeface="Baskerville"/>
              </a:rPr>
              <a:t>Different religions also discriminated women such as Hinduism. 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  <a:p>
            <a:pPr marL="277920" indent="-277920">
              <a:lnSpc>
                <a:spcPct val="90000"/>
              </a:lnSpc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648"/>
                </a:solidFill>
                <a:latin typeface="Baskerville"/>
              </a:rPr>
              <a:t>“</a:t>
            </a:r>
            <a:r>
              <a:rPr b="0" lang="en-US" sz="2400" spc="-1" strike="noStrike">
                <a:solidFill>
                  <a:srgbClr val="5b5648"/>
                </a:solidFill>
                <a:latin typeface="Baskerville"/>
              </a:rPr>
              <a:t>A women’s place is a home” 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2712"/>
                </a:solidFill>
                <a:latin typeface="Copperplate"/>
              </a:rPr>
              <a:t>Rights of Women in the Past</a:t>
            </a:r>
            <a:endParaRPr b="0" lang="en-US" sz="58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spcBef>
                <a:spcPts val="2999"/>
              </a:spcBef>
              <a:buClr>
                <a:srgbClr val="d90b0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d90b00"/>
                </a:solidFill>
                <a:latin typeface="Baskerville"/>
              </a:rPr>
              <a:t>Feminism</a:t>
            </a:r>
            <a:r>
              <a:rPr b="0" lang="en-US" sz="3600" spc="-1" strike="noStrike">
                <a:solidFill>
                  <a:srgbClr val="d90b00"/>
                </a:solidFill>
                <a:latin typeface="Baskerville"/>
              </a:rPr>
              <a:t>: the view that biology is not destiny and that stratification by gender is wrong and should be resisted.</a:t>
            </a:r>
            <a:endParaRPr b="0" lang="en-US" sz="36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8902800" y="774720"/>
            <a:ext cx="3581280" cy="454824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1700s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335160" indent="-3351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b5648"/>
                </a:solidFill>
                <a:latin typeface="Baskerville"/>
              </a:rPr>
              <a:t>During the Colonial times, all household members were responsible for contributing to the economic survival of the family.</a:t>
            </a:r>
            <a:endParaRPr b="0" lang="en-US" sz="3100" spc="-1" strike="noStrike">
              <a:solidFill>
                <a:srgbClr val="5b5648"/>
              </a:solidFill>
              <a:latin typeface="Baskerville"/>
            </a:endParaRPr>
          </a:p>
          <a:p>
            <a:pPr marL="335160" indent="-3351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b5648"/>
                </a:solidFill>
                <a:latin typeface="Baskerville"/>
              </a:rPr>
              <a:t>Tasks of Women: Sewing, Gardening, and Taking care of the Children</a:t>
            </a:r>
            <a:endParaRPr b="0" lang="en-US" sz="3100" spc="-1" strike="noStrike">
              <a:solidFill>
                <a:srgbClr val="5b5648"/>
              </a:solidFill>
              <a:latin typeface="Baskerville"/>
            </a:endParaRPr>
          </a:p>
          <a:p>
            <a:pPr marL="335160" indent="-3351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b5648"/>
                </a:solidFill>
                <a:latin typeface="Baskerville"/>
              </a:rPr>
              <a:t>1775: George Washington sponsored a bill to create a hospital for the army. The women were paid 25 cents a day.</a:t>
            </a:r>
            <a:endParaRPr b="0" lang="en-US" sz="3100" spc="-1" strike="noStrike">
              <a:solidFill>
                <a:srgbClr val="5b5648"/>
              </a:solidFill>
              <a:latin typeface="Baskerville"/>
            </a:endParaRPr>
          </a:p>
          <a:p>
            <a:pPr marL="335160" indent="-3351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b5648"/>
                </a:solidFill>
                <a:latin typeface="Baskerville"/>
              </a:rPr>
              <a:t>A Vindication of the Rights of Woman was passed in 1792 in order to educate women and to pass their education to children.</a:t>
            </a:r>
            <a:endParaRPr b="0" lang="en-US" sz="31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480960" y="546120"/>
            <a:ext cx="2808360" cy="32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143760" y="114480"/>
            <a:ext cx="6441840" cy="49273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1800s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69360" indent="-3693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b5648"/>
                </a:solidFill>
                <a:latin typeface="Baskerville"/>
              </a:rPr>
              <a:t>During the early to mid-1800s, the hoop skirt represented the traditional dress worn by women.</a:t>
            </a:r>
            <a:endParaRPr b="0" lang="en-US" sz="2300" spc="-1" strike="noStrike">
              <a:solidFill>
                <a:srgbClr val="5b5648"/>
              </a:solidFill>
              <a:latin typeface="Baskerville"/>
            </a:endParaRPr>
          </a:p>
          <a:p>
            <a:pPr marL="369360" indent="-3693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b5648"/>
                </a:solidFill>
                <a:latin typeface="Baskerville"/>
              </a:rPr>
              <a:t>Activists preferred women to have constricting shorter skirt in order to maintain modesty</a:t>
            </a:r>
            <a:endParaRPr b="0" lang="en-US" sz="2300" spc="-1" strike="noStrike">
              <a:solidFill>
                <a:srgbClr val="5b5648"/>
              </a:solidFill>
              <a:latin typeface="Baskerville"/>
            </a:endParaRPr>
          </a:p>
          <a:p>
            <a:pPr marL="369360" indent="-3693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b5648"/>
                </a:solidFill>
                <a:latin typeface="Baskerville"/>
              </a:rPr>
              <a:t>The women had to surrender property rights when they were married until the mid-1800s.</a:t>
            </a:r>
            <a:endParaRPr b="0" lang="en-US" sz="2300" spc="-1" strike="noStrike">
              <a:solidFill>
                <a:srgbClr val="5b5648"/>
              </a:solidFill>
              <a:latin typeface="Baskerville"/>
            </a:endParaRPr>
          </a:p>
          <a:p>
            <a:pPr marL="369360" indent="-3693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b5648"/>
                </a:solidFill>
                <a:latin typeface="Baskerville"/>
              </a:rPr>
              <a:t>In 1869, the National Women Suffrage Association (NWSA) was formed by Susan B. Anthony in order to fight for women suffrage and to oppose the fifteenth amendment.</a:t>
            </a:r>
            <a:endParaRPr b="0" lang="en-US" sz="2300" spc="-1" strike="noStrike">
              <a:solidFill>
                <a:srgbClr val="5b5648"/>
              </a:solidFill>
              <a:latin typeface="Baskerville"/>
            </a:endParaRPr>
          </a:p>
          <a:p>
            <a:pPr marL="369360" indent="-3693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b5648"/>
                </a:solidFill>
                <a:latin typeface="Baskerville"/>
              </a:rPr>
              <a:t>1848: the Married Women’s Property Act was passed in New York city, allowing women to hold property even though they are married.</a:t>
            </a:r>
            <a:endParaRPr b="0" lang="en-US" sz="23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6143760" y="114480"/>
            <a:ext cx="6441840" cy="492732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1800s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335160" indent="-3351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1839: a law was passed which stated that if a marriage broke down and the parents separated, children under seven years of age should stay with their mother.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marL="335160" indent="-3351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1857: women could divorce husbands who were cruel to them or husbands who had left them.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marL="335160" indent="-3351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1870: women were allowed to keep money they had earned.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  <a:p>
            <a:pPr marL="335160" indent="-33516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648"/>
                </a:solidFill>
                <a:latin typeface="Baskerville"/>
              </a:rPr>
              <a:t>1891: women could not be forced to live with husbands unless they wished to</a:t>
            </a:r>
            <a:endParaRPr b="0" lang="en-US" sz="34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66" name=""/>
          <p:cNvSpPr/>
          <p:nvPr/>
        </p:nvSpPr>
        <p:spPr>
          <a:xfrm>
            <a:off x="-884880" y="9016560"/>
            <a:ext cx="8885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Baskerville"/>
                <a:ea typeface="Baskerville"/>
              </a:rPr>
              <a:t>http://www.historylearningsite.co.uk/womensrights.htm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6985080" y="355680"/>
            <a:ext cx="5587920" cy="66675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68280" y="368280"/>
            <a:ext cx="5587920" cy="57276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1900s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42720" indent="-34272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b5648"/>
                </a:solidFill>
                <a:latin typeface="Baskerville"/>
              </a:rPr>
              <a:t>Women were mostly unable to vote during the 1900s. </a:t>
            </a:r>
            <a:endParaRPr b="0" lang="en-US" sz="3700" spc="-1" strike="noStrike">
              <a:solidFill>
                <a:srgbClr val="5b5648"/>
              </a:solidFill>
              <a:latin typeface="Baskerville"/>
            </a:endParaRPr>
          </a:p>
          <a:p>
            <a:pPr marL="342720" indent="-34272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b5648"/>
                </a:solidFill>
                <a:latin typeface="Baskerville"/>
              </a:rPr>
              <a:t>On March 3, 1913, women picketed for women’s right in front of the White House</a:t>
            </a:r>
            <a:endParaRPr b="0" lang="en-US" sz="3700" spc="-1" strike="noStrike">
              <a:solidFill>
                <a:srgbClr val="5b5648"/>
              </a:solidFill>
              <a:latin typeface="Baskerville"/>
            </a:endParaRPr>
          </a:p>
          <a:p>
            <a:pPr marL="342720" indent="-34272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b5648"/>
                </a:solidFill>
                <a:latin typeface="Baskerville"/>
              </a:rPr>
              <a:t>The National Women’s Party was formed in 1916 to fight for women’s right.</a:t>
            </a:r>
            <a:endParaRPr b="0" lang="en-US" sz="3700" spc="-1" strike="noStrike">
              <a:solidFill>
                <a:srgbClr val="5b5648"/>
              </a:solidFill>
              <a:latin typeface="Baskerville"/>
            </a:endParaRPr>
          </a:p>
          <a:p>
            <a:pPr marL="342720" indent="-34272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b5648"/>
                </a:solidFill>
                <a:latin typeface="Baskerville"/>
              </a:rPr>
              <a:t>In 1923, the Equal Rights Amendment was passed in order to grant equal rights on women.</a:t>
            </a:r>
            <a:endParaRPr b="0" lang="en-US" sz="37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Conclusion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Women were mostly unable to vote in historical times until 1923. 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-380880">
              <a:spcBef>
                <a:spcPts val="29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648"/>
                </a:solidFill>
                <a:latin typeface="Baskerville"/>
              </a:rPr>
              <a:t>The more industrialized the country (United States) became, women lost more and more rights in society. </a:t>
            </a: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5648"/>
                </a:solidFill>
                <a:latin typeface="Copperplate"/>
              </a:rPr>
              <a:t>Bibliography</a:t>
            </a:r>
            <a:endParaRPr b="0" lang="en-US" sz="72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spcBef>
                <a:spcPts val="2999"/>
              </a:spcBef>
              <a:buClr>
                <a:srgbClr val="0044fe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Baskerville"/>
              </a:rPr>
              <a:t>http://boxer.senate.gov/whm/time_3.cfm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-380880">
              <a:spcBef>
                <a:spcPts val="2999"/>
              </a:spcBef>
              <a:buClr>
                <a:srgbClr val="0044fe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Baskerville"/>
              </a:rPr>
              <a:t>http://www.historylearningsite.co.uk/womensrights.htm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-380880">
              <a:spcBef>
                <a:spcPts val="2999"/>
              </a:spcBef>
              <a:buClr>
                <a:srgbClr val="0044fe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Baskerville"/>
              </a:rPr>
              <a:t>http://en.wikipedia.org/wiki/National_Woman%27s_Party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3808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Lauren Kang</cp:lastModifiedBy>
  <dcterms:modified xsi:type="dcterms:W3CDTF">2009-04-30T00:27:50Z</dcterms:modified>
  <cp:revision>1</cp:revision>
  <dc:subject/>
  <dc:title>Fighting Back: The Rise of Feminism</dc:title>
</cp:coreProperties>
</file>